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D2CB-8F82-427A-A39F-C097B6C33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S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A583-3818-4525-A4A4-41836B47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99C-518F-4511-BE9A-ABB40B09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799-F76E-44BE-9094-4E4E7440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FC3-27D0-48AC-8D3E-7EFA69C3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C074-4D01-4C3D-9ABC-69F3AD04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2CA7-E0C8-40B9-8E83-972FF27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3449-55B7-4905-84A5-45CA98A5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FAFB-FBF2-4556-9B8F-A11DAD4F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39BB-3335-41EF-9A5B-895F6307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E3F9-847E-49E8-9B94-100C3E70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C1A4-B941-4949-AA89-3B1F521D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90F-2507-456D-B060-E118A014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7FB4-49AC-4900-B9E8-ADA0CBF2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B6ED-610F-455B-AEC7-D00F26B0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B9C9-FFB2-438B-B8F1-AE969CA2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9A3F-D9F3-492B-AFD9-24898371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5460-3B32-40DA-9A03-A9C84ED0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15F-6795-41C1-A13D-74C86EF7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1D4-0E01-4E38-993E-C33DC0B7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770-A913-4246-9A4B-B30C6909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826E-E929-432A-85FB-8DA8F066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035-47E4-4C6A-BA3F-10B2F31F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406-7E33-4E39-86FD-DE6697F8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FA66-B2F7-43AC-B254-1FE7E7D0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8D89-E116-4C59-8BBC-B75D86DEC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38F0-EEF2-4600-A437-D18C921C3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3366"/>
                </a:solidFill>
                <a:latin typeface="Arial"/>
              </a:rPr>
              <a:t>Praktische oefeningen: </a:t>
            </a:r>
            <a:br>
              <a:rPr sz="4400"/>
            </a:br>
            <a:r>
              <a:rPr b="0" lang="nl-NL" sz="4400" spc="-1" strike="noStrike">
                <a:solidFill>
                  <a:srgbClr val="003366"/>
                </a:solidFill>
                <a:latin typeface="Arial"/>
              </a:rPr>
              <a:t>groei van Nederlandse kinder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91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dré 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MSTEL Instituut, Universiteit van Amsterd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ww.science.uva.nl/~heck/research/gro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casus1" descr=""/>
          <p:cNvPicPr/>
          <p:nvPr/>
        </p:nvPicPr>
        <p:blipFill>
          <a:blip r:embed="rId1"/>
          <a:stretch/>
        </p:blipFill>
        <p:spPr>
          <a:xfrm>
            <a:off x="3733920" y="0"/>
            <a:ext cx="5265720" cy="681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357920" y="7254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s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3760" y="1295280"/>
            <a:ext cx="21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hterstand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uberteits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wikk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asus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5256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pgave 6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Op leeftijd van 19 jaar is het gemiddelde gewic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ijk aan 72 k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gewicht naar lengte diagram lezen we af d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gemiddelde gewicht van 36 kg past bij een leng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146 c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t lengte naar leeftijd diagram lezen we af dat 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iddelde lengte van 146 cm past bij 10,5 jaar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 pas tussen 10 en 11 jaar wordt de helft van het eindgewicht bereikt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iddelde vroeg-volwasssen lengte = 184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ftijd waarop gemiddelde lengte 92 cm i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jaar en 3 ma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Voor meisj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p  (min_L - 167,1) / 6,6 = -2,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e lengte = 150,6 cm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jonge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p  (min_L - 174,4) / 7,9 = -2,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e lengte = 154,7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3049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Punt ligt halverwege 0 en 2 SDS-lij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atting: 1 SD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In gewicht naar lengte diagram lezen we af dat 69 pond (=34,5 kg) correspondeert met een lengte van 144 cm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engte naar leeftijd diagram lezen we af dat een lengte van 144 cm correspondeert met een leeftijd van 10 jaar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pgave 7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Elke SDS-lijn heeft dezelfde vorm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jl omhoog in 1e levensjaar, maximum bij 1 ja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geacht de SDS-lij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olgens een daling tot het lokale minimum d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“adipeuze rebound” heet; het lokale minimum verschilt wel per SDS-lijn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na gestage toename van BMI.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kundig model: ln(BMI) is een derdegraads veelterm in  ln(leeftijd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Overgewicht op vroeg-volwassen leeftijd als BMI&gt;2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ze grenswaarde stemt volgens diagram overeen met 1 SDS oftwel P84 voor jongens en meisje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 16 % heeft overgewich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43000" y="3049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Ondergewicht op vroeg-volwassen leeftijd als BMI&lt;18,5. Deze grenswaarde stemt volgens diagram voor meisjes overeen met -2 SDS oftwel P2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s 2 % van 21-jarige meisjes heeft ondergewich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j jongens stemt de grenswaarde overeen m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1,6 SDS. Het komt bij jongens dus volgens dit criterium meer v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Bij hogere SDS-lijnen komt adipeuze rebound eerde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) Een vroege adipeuze rebound, zeg bij leeftijd van 3 jaar, kan een indicatie van (aanleg tot) zwaarlijvigheid zij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CBS_BMItabel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7642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pgave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jongens21" descr=""/>
          <p:cNvPicPr/>
          <p:nvPr/>
        </p:nvPicPr>
        <p:blipFill>
          <a:blip r:embed="rId1"/>
          <a:stretch/>
        </p:blipFill>
        <p:spPr>
          <a:xfrm>
            <a:off x="4275000" y="182520"/>
            <a:ext cx="4716720" cy="66754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70640" y="512604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70520" y="480060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80120" y="457200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6320" y="413532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65920" y="375444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3000" y="322092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61440" y="289548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85040" y="236232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84920" y="200196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9840" y="175248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75400" y="152388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7920" y="123984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76920" y="1230480"/>
            <a:ext cx="34772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vallend aan Shaq’s leng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leeftijd kromme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tot een jaar of 10 in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urt van 2.5 SDS (P99.4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tussen 16 en 21 jaar gro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nog 15 cm, terwijl 5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rmaal 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zijn eindlengte is ongew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 gewicht naar leng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agram volgt dat h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een zwaar, maar ni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zonderlijk postuur he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2 % heeft eenzelf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wicht bij gegeven leng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Uitgangspunten voor groeidiagramm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ei van het individuele kind wordt afgezet tegen de gemiddelden en parameters van de spreiding van een referentiepopu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toepasbaar, </a:t>
            </a:r>
            <a:br>
              <a:rPr sz="24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owel voor invullen en interpretatie door gezondheidszorgpersoneel,</a:t>
            </a:r>
            <a:br>
              <a:rPr sz="20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s voor uitleg aan ouders en kind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 referentielijnen zodanig dat ze maximaal behulpzaam zijn bij het onderscheiden van kinderen met groeistoorn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ferentiewaarden moeten op populatie niveau een index kunnen geven voor gezondheid en welva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pgave 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neke Bruidegom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eftijd: 13,9 j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: 167 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wicht: 42 k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lengte_SDS= (167 - 164,7) / 6,7 = 0,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nen normal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Voor meisje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p  (min_L - 167,1) / 6,6 = -2,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e lengte = 150,6 cm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jonge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op  (min_L - 174,4) / 7,9 = -2,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e lengte = 154,7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3049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Nederlandse maatstaven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iddelde eindlengte 184 cm,  SD = 7,1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_SDS = (216 - 184) / 7,1 = 4,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kaanse maatstaven (NHANES III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middelde eindlengte 176,5 cm,  SD = 7,6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_SDS = (216 - 176,5) / 7,6 = 5,2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r Amerikaanse begrippen is Shaq meer uitzonderlijk lang dan naar Nederlandse maatstav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pgave 3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chil in eindlengten: 184 - 170,6 = 13,4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ar beneden afgerond: 13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 = gem. ouderleng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/2*sexe_verschi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+ generatie_verschil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V+LM)/2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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/2 + 4,5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V+LM)/2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+ 11 (voor jong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(LV+LM)/2 - 2 (voor meisje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Andere formules voor eindleng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dlengte = 2 x lengte op leeftijd van 2 jaar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voor meisjes)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dlengte =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x lengte bij menarche +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parameters uit een tabel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ndlengte =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x lengte +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x gewich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+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x gemiddelde ouderlengte,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t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parameters uit een t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ules van belang voor sportbeoefening en be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pgave 4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neke Bruidegom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 vader 189 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 moeder 167 c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e op leeftijd van 13,9 jaar = 167 cm (= 0,34 S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height = (189 + 167)/2 - 2 = 176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_SDS = (176 - 170,6) / 6,5 = 0,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idige lengte is binnen streefgeb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7% van de kinderen groeit tussen 3 jaar en het begin van de puberteit binnen hun streefgeb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zoom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573720" cy="47242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Arial"/>
              </a:rPr>
              <a:t>Opgave 5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21164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14880" y="3678120"/>
            <a:ext cx="81000" cy="5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96120" y="327672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39120" y="200196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772400" y="190512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74400" y="1230480"/>
            <a:ext cx="4073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ige toepasbare criterium v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 afbuiging van 0,25 S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durende opeenvolgende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met minimaal tuss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zen van 6 maan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ng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1,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+0.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,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3,9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+0.1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6,0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0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,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7,5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0.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9,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0.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basis van metingen op leeftij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6, 7 en 8 jaar inderdaad r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 doorverwijzing naar kindera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996320" y="177336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148600" y="169704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600200"/>
            <a:ext cx="81000" cy="554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1:27:01Z</dcterms:created>
  <dc:creator>Amstel Instituut</dc:creator>
  <dc:description/>
  <dc:language>en-US</dc:language>
  <cp:lastModifiedBy>Johan v.d.Ridder nascholing1</cp:lastModifiedBy>
  <cp:lastPrinted>1999-04-23T08:53:36Z</cp:lastPrinted>
  <dcterms:modified xsi:type="dcterms:W3CDTF">2002-08-31T05:45:27Z</dcterms:modified>
  <cp:revision>50</cp:revision>
  <dc:subject/>
  <dc:title>Coach Architecture</dc:title>
</cp:coreProperties>
</file>